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947-CB0B-4CF3-A667-7491B2BE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7A7-892F-46A1-A3F3-0704CE52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D63-3A9B-4C2E-8ADD-22E36765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FFF-405C-4979-9C16-D7ABA048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1BE-3620-4D0E-95DA-8B53594C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2E5-2E66-495A-A7A6-60641B87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E718-EA95-43AB-8630-A48A42E9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930-6DFF-4E95-8C3F-A33DD086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E9D5-C04C-4845-B8CC-225F8929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228-EE98-4B98-9EC2-5D648C5F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E14-C5BD-40B2-B1A5-724FF1AC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8D06-2D59-4D75-B0D9-07F89550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7DF1-B691-45ED-A744-C853131B6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hyperlink" Target="http://www.cip-medien.com/" TargetMode="External"/><Relationship Id="rId4" Type="http://schemas.openxmlformats.org/officeDocument/2006/relationships/hyperlink" Target="mailto:cipmedien@aol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75240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tscheidungsbaum zur Stellung einer ICD-10-Diagnose bei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lirantem Syndrom laut VDS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7400" y="27288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560" y="1285920"/>
            <a:ext cx="592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: Liegt ein Delir vo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000080" y="3676680"/>
          <a:ext cx="2409840" cy="456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3676680"/>
                    <a:ext cx="2409840" cy="45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730440" y="1940040"/>
            <a:ext cx="412200" cy="21564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5400" y="2160720"/>
            <a:ext cx="2941560" cy="1067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onnten Sie im VDS-Befund eine Störung des Bewußtseins und der Aufmerksamkeit nachweisen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Der Schweregrad kann wechseln. Die Bewußtseinsstörung ist auf einem Kontinuum zwischen leichter Bewußtseinsminderung und Koma anzusiedeln, die Fähigkeit, Aufmerksamkeit zu richten, aufrechtzuerhalten oder umzustellen, kann gestört sein.)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VDS14/1 und 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14760" y="2400480"/>
            <a:ext cx="220032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in Delir ist damit ausgeschlossen!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Überprüfen Sie das Vorliegen einer Demenz oder anderen organisch-psychischen Störung anhand der Seiten 43 – 4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7" idx="3"/>
            <a:endCxn id="48" idx="1"/>
          </p:cNvCxnSpPr>
          <p:nvPr/>
        </p:nvCxnSpPr>
        <p:spPr>
          <a:xfrm flipV="1">
            <a:off x="3666960" y="2690640"/>
            <a:ext cx="848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7" idx="2"/>
          </p:cNvCxnSpPr>
          <p:nvPr/>
        </p:nvCxnSpPr>
        <p:spPr>
          <a:xfrm>
            <a:off x="2196000" y="3228120"/>
            <a:ext cx="9720" cy="449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486080" y="8713800"/>
            <a:ext cx="1419120" cy="215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iter auf Seite 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5000" y="8039160"/>
            <a:ext cx="0" cy="67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14760" y="3895560"/>
            <a:ext cx="220032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in Delir ist damit ausgeschlossen!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Überprüfen Sie das Vorliegen einer Demenz oder anderen organisch-psychischen Störung anhand der Seiten 43 – 4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09920" y="4181400"/>
            <a:ext cx="110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5000" y="32367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66960" y="24843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09920" y="39672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5000" y="80391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78360" y="7327800"/>
            <a:ext cx="2346120" cy="855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pyright: CIP-Medien Verlag Mün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cip-medien.com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ipmedien@aol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toren: S. Holzer und S. Sul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17400" y="27288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4240" y="932040"/>
            <a:ext cx="221940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 der Beginn der Störung akut und wechseln die Symptome im Tagesverlauf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4240" y="1751040"/>
            <a:ext cx="2219400" cy="82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trägt die Gesamtdauer der Störung weniger als sechs Monate (typischerweise einige Tage bis vier Wochen)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Bei Überschreiten des Zeitkriteriums, muss von der Diagnose eines Delirs Abstand genommen werden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5440" y="4094280"/>
            <a:ext cx="2454120" cy="82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iegt der Störung eine organische Ätiologie zugrunde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Laut ICD-10 kann aber aufgrund des sehr typischen Erscheinungsbildes des Delirs auf einen genauen Nachweis dieser verzichtet werden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640" y="6667560"/>
            <a:ext cx="2338560" cy="945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t das Delir bedingt durch eine akute Intoxikation?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iese setzt den Hinweis auf Substanzgebrauch in einer ausreichenden Menge und deutliche Störungen von Verhalten, Kognitionen oder körperlichen Funktionen vorau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640" y="5591160"/>
            <a:ext cx="233856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st das Delir bedingt durch den Konsum psychotroper Substanz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640" y="8305920"/>
            <a:ext cx="233856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st das Delir bedingt durch den Entzug psychotroper Substanzen nach wiederholtem, längerdauerndem und/oder hochdosiertem Substanzkonsum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2" idx="2"/>
            <a:endCxn id="63" idx="0"/>
          </p:cNvCxnSpPr>
          <p:nvPr/>
        </p:nvCxnSpPr>
        <p:spPr>
          <a:xfrm>
            <a:off x="1823760" y="1274400"/>
            <a:ext cx="108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4" idx="2"/>
            <a:endCxn id="66" idx="0"/>
          </p:cNvCxnSpPr>
          <p:nvPr/>
        </p:nvCxnSpPr>
        <p:spPr>
          <a:xfrm flipH="1">
            <a:off x="1816920" y="4925880"/>
            <a:ext cx="5400" cy="66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2"/>
            <a:endCxn id="65" idx="0"/>
          </p:cNvCxnSpPr>
          <p:nvPr/>
        </p:nvCxnSpPr>
        <p:spPr>
          <a:xfrm>
            <a:off x="1817280" y="5933880"/>
            <a:ext cx="10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5" idx="2"/>
            <a:endCxn id="67" idx="0"/>
          </p:cNvCxnSpPr>
          <p:nvPr/>
        </p:nvCxnSpPr>
        <p:spPr>
          <a:xfrm>
            <a:off x="1817280" y="7621200"/>
            <a:ext cx="1080" cy="6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1814400" y="230040"/>
            <a:ext cx="0" cy="70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86280" y="5467320"/>
            <a:ext cx="202860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5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ir, nicht durch Alkohol oder sonstige psychotrope Substanzen beding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62240" y="4371840"/>
            <a:ext cx="188136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t sich das Delir im Verlauf einer Demenz entwickelt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gl. Seiten 45 - 4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73" idx="0"/>
            <a:endCxn id="74" idx="2"/>
          </p:cNvCxnSpPr>
          <p:nvPr/>
        </p:nvCxnSpPr>
        <p:spPr>
          <a:xfrm flipV="1">
            <a:off x="5000760" y="4836240"/>
            <a:ext cx="3600" cy="62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124080" y="3608280"/>
            <a:ext cx="140976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5.0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ir ohne Demen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608280"/>
            <a:ext cx="125388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5.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ir bei Demen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4" idx="3"/>
            <a:endCxn id="77" idx="2"/>
          </p:cNvCxnSpPr>
          <p:nvPr/>
        </p:nvCxnSpPr>
        <p:spPr>
          <a:xfrm flipV="1">
            <a:off x="5943600" y="3972960"/>
            <a:ext cx="192960" cy="63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4" idx="1"/>
            <a:endCxn id="76" idx="2"/>
          </p:cNvCxnSpPr>
          <p:nvPr/>
        </p:nvCxnSpPr>
        <p:spPr>
          <a:xfrm rot="10800000">
            <a:off x="3828240" y="3972960"/>
            <a:ext cx="234000" cy="63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3986280" y="6962760"/>
            <a:ext cx="202860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1x.03*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kute Intoxikation mit Del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65" idx="3"/>
            <a:endCxn id="80" idx="1"/>
          </p:cNvCxnSpPr>
          <p:nvPr/>
        </p:nvCxnSpPr>
        <p:spPr>
          <a:xfrm flipV="1">
            <a:off x="2985840" y="7139880"/>
            <a:ext cx="9910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3986280" y="8420040"/>
            <a:ext cx="202860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1x.4*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tzugssyndrom mit Del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67" idx="3"/>
            <a:endCxn id="82" idx="1"/>
          </p:cNvCxnSpPr>
          <p:nvPr/>
        </p:nvCxnSpPr>
        <p:spPr>
          <a:xfrm flipV="1">
            <a:off x="2985840" y="8597520"/>
            <a:ext cx="99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3630600" y="1541520"/>
            <a:ext cx="2867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* Verschlüsseln Sie mit der dritten Stelle die                                Substanzgruppe, die die jeweilige Störung verursacht. (vgl. VDS14/2)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0 Störung durch Alkohol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1 Störung durch Opioide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2 Störung durch Canabinoide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3 Störung durch Sedativa oder Hypnotika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4 Störung durch Kokain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5 Störung durch sonstige Stimulantien einschl. Koffein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6 Störung durch Halluzinogene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7 Störung durch Tabak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8 Störung durch flüchtige Lösungsmittel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9 Störung durch multiplen Substanzgebrauch und Konsum sonstiger psychotroper Substanz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4120" y="12747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4120" y="25830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5720" y="3054240"/>
            <a:ext cx="247644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nnen akute vorübergehende psychotische Störungen ( F23), eine Schizophrenie (F20) und eine Depression mir Verwirrtheitszuständen ausgeschlossen wer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63" idx="2"/>
            <a:endCxn id="87" idx="0"/>
          </p:cNvCxnSpPr>
          <p:nvPr/>
        </p:nvCxnSpPr>
        <p:spPr>
          <a:xfrm>
            <a:off x="1823760" y="2582640"/>
            <a:ext cx="108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7" idx="2"/>
            <a:endCxn id="64" idx="0"/>
          </p:cNvCxnSpPr>
          <p:nvPr/>
        </p:nvCxnSpPr>
        <p:spPr>
          <a:xfrm flipH="1">
            <a:off x="1821600" y="3641400"/>
            <a:ext cx="252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1824120" y="36417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62160" y="42958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03640" y="52531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14400" y="59342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46054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19520" y="46054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4120" y="76215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86200" y="69310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86200" y="8389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64" idx="3"/>
            <a:endCxn id="73" idx="1"/>
          </p:cNvCxnSpPr>
          <p:nvPr/>
        </p:nvCxnSpPr>
        <p:spPr>
          <a:xfrm>
            <a:off x="3049200" y="4509720"/>
            <a:ext cx="927720" cy="1258200"/>
          </a:xfrm>
          <a:prstGeom prst="bentConnector3">
            <a:avLst>
              <a:gd name="adj1" fmla="val 505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814400" y="49258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66" idx="3"/>
            <a:endCxn id="73" idx="1"/>
          </p:cNvCxnSpPr>
          <p:nvPr/>
        </p:nvCxnSpPr>
        <p:spPr>
          <a:xfrm>
            <a:off x="2985840" y="5762520"/>
            <a:ext cx="9910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986200" y="55483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28960" y="846000"/>
            <a:ext cx="230688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Überprüfen Sie das Vorliegen einer Demenz oder anderen organisch-psychischen Störung anhand der Seiten 43 – 4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33640" y="1114560"/>
            <a:ext cx="89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33640" y="2190600"/>
            <a:ext cx="3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324240" y="111420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33640" y="19764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33640" y="9000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17400" y="22536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26120" y="687240"/>
            <a:ext cx="363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: Liegt eine andere organische psychische Störung vo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0440" y="1454040"/>
            <a:ext cx="412200" cy="21564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5400" y="1674720"/>
            <a:ext cx="2637000" cy="82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egt den Symptomen eine eindeutige organische Ätiologie zugrunde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oraussetzung ist der Beleg einer hirnorganischen oder Hirnfunktionsstörung oder einer körperlichen Erkrankung, die in der Lage die psychischen Symptome zu verursachen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5400" y="3084480"/>
            <a:ext cx="263700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steht ein eindeutiger zeitlicher Zusammenhang zwischen dem Auftreten der organischen und dem der psychischen Störu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5400" y="4141800"/>
            <a:ext cx="263700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mmt es zu einer Rückbildung oder Besserung der psychischen Störung nach Rückbildung oder Besserung der zugrunde liegenden organischen Ursache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5400" y="5294160"/>
            <a:ext cx="263700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istieren keine ausreichenden Belege für eine andere Verursachung der psychischen Störu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3" idx="2"/>
            <a:endCxn id="114" idx="0"/>
          </p:cNvCxnSpPr>
          <p:nvPr/>
        </p:nvCxnSpPr>
        <p:spPr>
          <a:xfrm>
            <a:off x="2044440" y="2506320"/>
            <a:ext cx="108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4" idx="2"/>
            <a:endCxn id="115" idx="0"/>
          </p:cNvCxnSpPr>
          <p:nvPr/>
        </p:nvCxnSpPr>
        <p:spPr>
          <a:xfrm>
            <a:off x="2044440" y="3549240"/>
            <a:ext cx="1080" cy="59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5" idx="2"/>
            <a:endCxn id="116" idx="0"/>
          </p:cNvCxnSpPr>
          <p:nvPr/>
        </p:nvCxnSpPr>
        <p:spPr>
          <a:xfrm>
            <a:off x="2044440" y="4728960"/>
            <a:ext cx="1080" cy="56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977760" y="7162920"/>
            <a:ext cx="2133720" cy="945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onnten Sie im VDS14-Befund Halluzinationen nachweisen und gleichzeitig eine Störung der Bewußtseinslage und Wahnideen ausschließen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rägen dies das klinische Bild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VDS14/11, 1 und 1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5400" y="6161040"/>
            <a:ext cx="263700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nnen sowohl ein Delir als auch eine Demenz ausgeschlossen werd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gl. Seiten 41 – 42 und 45 - 4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6" idx="2"/>
            <a:endCxn id="121" idx="0"/>
          </p:cNvCxnSpPr>
          <p:nvPr/>
        </p:nvCxnSpPr>
        <p:spPr>
          <a:xfrm>
            <a:off x="2044440" y="563688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3591000" y="7343640"/>
            <a:ext cx="120960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n eine Schizophrenie ausgeschlossen wer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61040" y="7219800"/>
            <a:ext cx="1209600" cy="82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n eine Verursachung durch psychotrope Substanzen ausgeschlossen wer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2"/>
            <a:endCxn id="120" idx="0"/>
          </p:cNvCxnSpPr>
          <p:nvPr/>
        </p:nvCxnSpPr>
        <p:spPr>
          <a:xfrm>
            <a:off x="2044440" y="6625800"/>
            <a:ext cx="108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0" idx="3"/>
            <a:endCxn id="123" idx="1"/>
          </p:cNvCxnSpPr>
          <p:nvPr/>
        </p:nvCxnSpPr>
        <p:spPr>
          <a:xfrm flipV="1">
            <a:off x="3111480" y="7636680"/>
            <a:ext cx="480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3" idx="3"/>
            <a:endCxn id="124" idx="1"/>
          </p:cNvCxnSpPr>
          <p:nvPr/>
        </p:nvCxnSpPr>
        <p:spPr>
          <a:xfrm flipV="1">
            <a:off x="4800240" y="7635600"/>
            <a:ext cx="461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5213520" y="8496360"/>
            <a:ext cx="131436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06.0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organische Halluzino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13520" y="6027840"/>
            <a:ext cx="1314360" cy="70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1x.52*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lluzinatorische Störung durch psychotrope Substanz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4" idx="0"/>
            <a:endCxn id="129" idx="2"/>
          </p:cNvCxnSpPr>
          <p:nvPr/>
        </p:nvCxnSpPr>
        <p:spPr>
          <a:xfrm flipV="1">
            <a:off x="5865480" y="6759360"/>
            <a:ext cx="5400" cy="46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4" idx="2"/>
            <a:endCxn id="128" idx="0"/>
          </p:cNvCxnSpPr>
          <p:nvPr/>
        </p:nvCxnSpPr>
        <p:spPr>
          <a:xfrm>
            <a:off x="5865480" y="8051760"/>
            <a:ext cx="5400" cy="43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343160" y="8637480"/>
            <a:ext cx="1419120" cy="215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iter auf Seite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20" idx="2"/>
            <a:endCxn id="132" idx="0"/>
          </p:cNvCxnSpPr>
          <p:nvPr/>
        </p:nvCxnSpPr>
        <p:spPr>
          <a:xfrm>
            <a:off x="2044800" y="8116920"/>
            <a:ext cx="8640" cy="52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2052720" y="2506680"/>
            <a:ext cx="34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2720" y="3549600"/>
            <a:ext cx="34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2720" y="4729320"/>
            <a:ext cx="34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2720" y="5637240"/>
            <a:ext cx="34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2720" y="6635880"/>
            <a:ext cx="34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11480" y="7421400"/>
            <a:ext cx="34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7421400"/>
            <a:ext cx="34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70520" y="8051760"/>
            <a:ext cx="34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70520" y="7005600"/>
            <a:ext cx="49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44800" y="8116920"/>
            <a:ext cx="49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0" y="1960560"/>
            <a:ext cx="2867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* Verschlüsseln Sie mit der dritten Stelle die                                Substanzgruppe, die die jeweilige Störung verursacht. (vgl. VDS14/2)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0 Störung durch Alkohol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1 Störung durch Opioide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2 Störung durch Canabinoide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3 Störung durch Sedativa oder Hypnotika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4 Störung durch Kokain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5 Störung durch sonstige Stimulantien einschl. Koffein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6 Störung durch Halluzinogene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7 Störung durch Tabak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8 Störung durch flüchtige Lösungsmittel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9 Störung durch multiplen Substanzgebrauch und Konsum sonstiger psychotroper Substanz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017400" y="22536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5320" y="1504800"/>
            <a:ext cx="2133720" cy="1067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onnten Sie im VDS-Befund Wahnideen nachweisen und gleichzeitig eine Störung der Bewußtseinslage und des Gedächtnisses ausschließen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usätzlich können Halluzinationen, formale Denkstörungen oder einzelne katatone Symptome vorliegen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VDS14/12, 11,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38560" y="1438200"/>
            <a:ext cx="1209600" cy="1189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önnen eine Schizophrenie (F20), eine anhaltende wahnhafte Störung (F22) oder eine akute vorübergehende psychotische Störung (F23) ausgeschlossen wer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75200" y="1619280"/>
            <a:ext cx="1209600" cy="82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n eine Verursachung durch psychotrope Substanzen ausgeschlossen wer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8" idx="3"/>
            <a:endCxn id="149" idx="1"/>
          </p:cNvCxnSpPr>
          <p:nvPr/>
        </p:nvCxnSpPr>
        <p:spPr>
          <a:xfrm flipV="1">
            <a:off x="4448160" y="2034360"/>
            <a:ext cx="527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927680" y="561960"/>
            <a:ext cx="131436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6.2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isch wahnhafte (schizophreniforme) Stö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59040" y="1828800"/>
            <a:ext cx="34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84680" y="1397160"/>
            <a:ext cx="34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47" idx="3"/>
            <a:endCxn id="148" idx="1"/>
          </p:cNvCxnSpPr>
          <p:nvPr/>
        </p:nvCxnSpPr>
        <p:spPr>
          <a:xfrm flipV="1">
            <a:off x="2759040" y="2037600"/>
            <a:ext cx="4802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9" idx="0"/>
            <a:endCxn id="151" idx="2"/>
          </p:cNvCxnSpPr>
          <p:nvPr/>
        </p:nvCxnSpPr>
        <p:spPr>
          <a:xfrm flipV="1">
            <a:off x="5579640" y="1171080"/>
            <a:ext cx="5400" cy="448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4927680" y="2924280"/>
            <a:ext cx="131436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1x.5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sychotische Störung durch psychotrope Substanz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2"/>
            <a:endCxn id="156" idx="0"/>
          </p:cNvCxnSpPr>
          <p:nvPr/>
        </p:nvCxnSpPr>
        <p:spPr>
          <a:xfrm>
            <a:off x="5579640" y="2450880"/>
            <a:ext cx="5400" cy="46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5584680" y="2451240"/>
            <a:ext cx="47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48160" y="1820880"/>
            <a:ext cx="34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95600" y="561960"/>
            <a:ext cx="0" cy="94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8560" y="3657600"/>
            <a:ext cx="213372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nten Sie im VDS-Befund katatone Erregung, Stupor oder beides nachweis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DS14/1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47" idx="2"/>
            <a:endCxn id="161" idx="0"/>
          </p:cNvCxnSpPr>
          <p:nvPr/>
        </p:nvCxnSpPr>
        <p:spPr>
          <a:xfrm>
            <a:off x="1692000" y="2581200"/>
            <a:ext cx="3960" cy="10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1695600" y="2581200"/>
            <a:ext cx="47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38560" y="3657600"/>
            <a:ext cx="120960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n eine Schizophrenie (F20), ausgeschlossen wer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27680" y="3651120"/>
            <a:ext cx="164772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6.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isch katatone Störung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Überprüfen Sie die Diagnose anhand von ICD-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1" idx="3"/>
            <a:endCxn id="164" idx="1"/>
          </p:cNvCxnSpPr>
          <p:nvPr/>
        </p:nvCxnSpPr>
        <p:spPr>
          <a:xfrm>
            <a:off x="2761920" y="3951000"/>
            <a:ext cx="47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4" idx="3"/>
            <a:endCxn id="165" idx="1"/>
          </p:cNvCxnSpPr>
          <p:nvPr/>
        </p:nvCxnSpPr>
        <p:spPr>
          <a:xfrm>
            <a:off x="4447800" y="3951000"/>
            <a:ext cx="470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2759040" y="3743280"/>
            <a:ext cx="34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48160" y="3736800"/>
            <a:ext cx="34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5320" y="4676760"/>
            <a:ext cx="213372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egen affektive Symptome vor, die die Kriterien einer manischen, depressiven oder bipolaren affektiven Störung erfüll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gl. Seiten 8 – 10 und 12 – 1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9600" y="4670280"/>
            <a:ext cx="164808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6.3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isch affektive  Störung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Überprüfen Sie die Diagnose anhand von ICD-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0" idx="3"/>
            <a:endCxn id="171" idx="1"/>
          </p:cNvCxnSpPr>
          <p:nvPr/>
        </p:nvCxnSpPr>
        <p:spPr>
          <a:xfrm>
            <a:off x="2759040" y="4970160"/>
            <a:ext cx="511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2762280" y="4756320"/>
            <a:ext cx="34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1" idx="2"/>
            <a:endCxn id="170" idx="0"/>
          </p:cNvCxnSpPr>
          <p:nvPr/>
        </p:nvCxnSpPr>
        <p:spPr>
          <a:xfrm flipH="1">
            <a:off x="1691640" y="4244760"/>
            <a:ext cx="396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1695600" y="4254480"/>
            <a:ext cx="47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5320" y="5667480"/>
            <a:ext cx="213372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egen affektive Symptome vor, die die Kriterien einer Angst- oder Panikstörung  erfüll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gl. Seiten 21 - 2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32080" y="5661000"/>
            <a:ext cx="164772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6.4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ische Angststörung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Überprüfen Sie die Diagnose anhand von ICD-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6" idx="3"/>
            <a:endCxn id="177" idx="1"/>
          </p:cNvCxnSpPr>
          <p:nvPr/>
        </p:nvCxnSpPr>
        <p:spPr>
          <a:xfrm>
            <a:off x="2759040" y="5960880"/>
            <a:ext cx="46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2762280" y="5746680"/>
            <a:ext cx="34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0" idx="2"/>
            <a:endCxn id="176" idx="0"/>
          </p:cNvCxnSpPr>
          <p:nvPr/>
        </p:nvCxnSpPr>
        <p:spPr>
          <a:xfrm>
            <a:off x="1692000" y="5264280"/>
            <a:ext cx="108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1695600" y="5273640"/>
            <a:ext cx="47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5320" y="6715080"/>
            <a:ext cx="213372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egen Symptome vor, die die Kriterien einer dissoziativen Störung erfüll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gl. Seiten 53 - 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32080" y="6585120"/>
            <a:ext cx="1647720" cy="70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6.5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isch dissoziative Störung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Überprüfen Sie die Diagnose anhand von ICD-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2" idx="3"/>
            <a:endCxn id="183" idx="1"/>
          </p:cNvCxnSpPr>
          <p:nvPr/>
        </p:nvCxnSpPr>
        <p:spPr>
          <a:xfrm flipV="1">
            <a:off x="2759040" y="6946560"/>
            <a:ext cx="464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762280" y="6737400"/>
            <a:ext cx="34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95600" y="6264360"/>
            <a:ext cx="47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76" idx="2"/>
            <a:endCxn id="182" idx="0"/>
          </p:cNvCxnSpPr>
          <p:nvPr/>
        </p:nvCxnSpPr>
        <p:spPr>
          <a:xfrm>
            <a:off x="1692000" y="6254280"/>
            <a:ext cx="108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625320" y="7648560"/>
            <a:ext cx="213372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iegt eine Vielfalt körperlicher Mißempfindungen vor, und ist das klinische Bild von Affektlabilität beherrsch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2080" y="7585200"/>
            <a:ext cx="1647720" cy="70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6.6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isch emotional labile (asthenische) Störung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Überprüfen Sie die Diagnose anhand von ICD-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8" idx="3"/>
            <a:endCxn id="189" idx="1"/>
          </p:cNvCxnSpPr>
          <p:nvPr/>
        </p:nvCxnSpPr>
        <p:spPr>
          <a:xfrm>
            <a:off x="2759040" y="7941960"/>
            <a:ext cx="4644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762280" y="7728120"/>
            <a:ext cx="34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2" idx="2"/>
            <a:endCxn id="188" idx="0"/>
          </p:cNvCxnSpPr>
          <p:nvPr/>
        </p:nvCxnSpPr>
        <p:spPr>
          <a:xfrm>
            <a:off x="1692000" y="7179840"/>
            <a:ext cx="108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1692360" y="7245360"/>
            <a:ext cx="47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22720" y="8594640"/>
            <a:ext cx="164772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6.8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ere organisch psychische  Stö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93800" y="8236080"/>
            <a:ext cx="47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8" idx="2"/>
            <a:endCxn id="194" idx="1"/>
          </p:cNvCxnSpPr>
          <p:nvPr/>
        </p:nvCxnSpPr>
        <p:spPr>
          <a:xfrm flipH="1" rot="16200000">
            <a:off x="2153520" y="7774560"/>
            <a:ext cx="598680" cy="1521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11:46:24Z</dcterms:created>
  <dc:creator>stefan holzer</dc:creator>
  <dc:description/>
  <dc:language>en-US</dc:language>
  <cp:lastModifiedBy>Dr. Sulz</cp:lastModifiedBy>
  <dcterms:modified xsi:type="dcterms:W3CDTF">2006-02-12T06:41:21Z</dcterms:modified>
  <cp:revision>19</cp:revision>
  <dc:subject/>
  <dc:title>PowerPoint-Präsentation</dc:title>
</cp:coreProperties>
</file>